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83B-E652-40A1-B9CC-D6CD825F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1A1-ED45-4A03-989B-43B09E2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2EC-4E82-4077-8A4C-1B2B546F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9E4-6437-4709-A02A-39216469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7C904-64DE-451E-A57F-BFFE55F7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E50A7-E653-4CB6-ACEE-8D794755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9167E-CB7C-469E-81B5-F9695CC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ABC85-3951-4150-B435-93AE7778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6855-8C17-4663-BFBE-537C9531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9622-7585-4DEF-A752-AD6CED34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4467D-2816-4903-92D6-2FDD639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27B-0596-45E9-B36C-E79A9C6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8462-0355-48CF-9E03-19AEA7E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5E509-4A0C-4F34-B513-321AB7E6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70CD1-7C87-4EEF-82EC-63FC65D9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232B0-10C7-4FC4-8559-7347298D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DA1B8-65E9-45FA-952C-60AAFFB7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279-5BB0-440A-8960-D0CD10E2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404-0837-42B2-A5E0-BCFE3C28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415-D893-4E28-B3D5-2D355A8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B54-E918-4756-AE3B-606DC4C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A1A-7116-475E-8D00-74845BD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24C-64E5-47E9-B5EE-349D000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A08-6B3A-4856-ADDF-CDCEAA7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177A-D2B4-42E1-8568-8E9CB0DFE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68E-C50C-48DD-AF9A-8386490E7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9960" y="189000"/>
            <a:ext cx="592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s fronteri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otro asalto a Baeza”  (agosto 14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cos, los mis moric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que ganáis mi sold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rribédesme a Baez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a villa torre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viejosm y a los 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traed en cabalg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mozos y va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meted  todos a esp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ese viejo pero Dí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endédmelo por la bar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quesa linda Leo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la mi enam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d vos, capitán Vanegas, porque venga más honr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i vos sois mandade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cierta la jornad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34:04Z</dcterms:created>
  <dc:creator> </dc:creator>
  <dc:description/>
  <dc:language>en-US</dc:language>
  <cp:lastModifiedBy> </cp:lastModifiedBy>
  <dcterms:modified xsi:type="dcterms:W3CDTF">2007-09-28T02:57:27Z</dcterms:modified>
  <cp:revision>6</cp:revision>
  <dc:subject/>
  <dc:title>Diapositiva 1</dc:title>
</cp:coreProperties>
</file>